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A3007-CB2F-455D-931B-2918C3C7DC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3A044-EA71-4D2D-92C3-9D86537896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3240" y="704880"/>
            <a:ext cx="4516200" cy="33876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75080"/>
            <a:ext cx="5029200" cy="40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8C12-343E-4472-89AB-8A713C128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4E26-882D-4D16-971B-0351142B4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3BBE-AC13-40BA-9DA8-EA4C0E105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FA6B-D263-4C6A-A979-16F009CF2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F637-AA62-4BFA-A5C8-5A52B1089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2097-890E-4D5E-959A-27FD8CEEE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EB27-C40F-4EE9-B5E3-EBEF7AF66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0950-69E2-4DFA-9B8F-5237F1F31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71AE-2828-46B7-9CE4-2C6F2C4EA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4EAD-A6F7-4F56-BCE5-B05C1E7B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997E-EF8A-4817-8185-0D888229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25DB-3F10-4DE3-9DA8-39601413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5DF93-3810-4DD2-A89A-A74DC4BEBB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209680" y="5029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91960" y="1803240"/>
            <a:ext cx="8607600" cy="1648080"/>
          </a:xfrm>
          <a:prstGeom prst="rect">
            <a:avLst/>
          </a:prstGeom>
          <a:solidFill>
            <a:srgbClr val="ffcf8c"/>
          </a:solidFill>
          <a:ln w="0">
            <a:noFill/>
          </a:ln>
          <a:effectLst>
            <a:outerShdw dist="107932" dir="13500000" blurRad="0" rotWithShape="0">
              <a:srgbClr val="39261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Балансуючий ринок, системні послуги та платежі за небалан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0" y="4457880"/>
            <a:ext cx="64771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. о. директора НЕК «Укренерго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.В.Ущаповсь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иїв,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9A40-3699-43F7-BA0A-11A81B788C5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Що  не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влаштовує зара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4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ідсутність повноцінного балансуючого механіз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ірогідність випадків, коли не вигідно виконувати команди С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ідсутність адекватної системи надання та оплати С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едосконале прогнозування та оптимізація графіку спожива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F58A-A6FA-42CC-9AE4-1B4E49224C8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Послідовність роботи Б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1960" y="5950080"/>
            <a:ext cx="8085240" cy="160200"/>
          </a:xfrm>
          <a:custGeom>
            <a:avLst/>
            <a:gdLst/>
            <a:ahLst/>
            <a:rect l="l" t="t" r="r" b="b"/>
            <a:pathLst>
              <a:path w="5093" h="101">
                <a:moveTo>
                  <a:pt x="0" y="40"/>
                </a:moveTo>
                <a:lnTo>
                  <a:pt x="5009" y="34"/>
                </a:lnTo>
                <a:lnTo>
                  <a:pt x="5009" y="67"/>
                </a:lnTo>
                <a:lnTo>
                  <a:pt x="0" y="74"/>
                </a:lnTo>
                <a:lnTo>
                  <a:pt x="0" y="40"/>
                </a:lnTo>
                <a:close/>
                <a:moveTo>
                  <a:pt x="4992" y="0"/>
                </a:moveTo>
                <a:lnTo>
                  <a:pt x="5093" y="51"/>
                </a:lnTo>
                <a:lnTo>
                  <a:pt x="4992" y="101"/>
                </a:lnTo>
                <a:lnTo>
                  <a:pt x="4992" y="0"/>
                </a:lnTo>
                <a:close/>
              </a:path>
            </a:pathLst>
          </a:custGeom>
          <a:solidFill>
            <a:srgbClr val="808080"/>
          </a:solidFill>
          <a:ln w="1440">
            <a:solidFill>
              <a:srgbClr val="80808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90920" y="5715000"/>
            <a:ext cx="0" cy="641520"/>
          </a:xfrm>
          <a:prstGeom prst="line">
            <a:avLst/>
          </a:prstGeom>
          <a:ln w="36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248520" y="5715000"/>
            <a:ext cx="0" cy="641520"/>
          </a:xfrm>
          <a:prstGeom prst="line">
            <a:avLst/>
          </a:prstGeom>
          <a:ln w="36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800960" y="6172200"/>
            <a:ext cx="1188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Times New Roman"/>
              </a:rPr>
              <a:t>День постачанн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6120" y="6172200"/>
            <a:ext cx="1252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D+1</a:t>
            </a:r>
            <a:r>
              <a:rPr b="0" lang="uk-UA" sz="1300" spc="-1" strike="noStrike">
                <a:solidFill>
                  <a:srgbClr val="000000"/>
                </a:solidFill>
                <a:latin typeface="Times New Roman"/>
              </a:rPr>
              <a:t> до тижня + 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77600" y="6172200"/>
            <a:ext cx="843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Times New Roman"/>
              </a:rPr>
              <a:t>Тиждень - 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48120" y="6172200"/>
            <a:ext cx="1143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Times New Roman"/>
              </a:rPr>
              <a:t>Попередня доб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5715000"/>
            <a:ext cx="0" cy="641520"/>
          </a:xfrm>
          <a:prstGeom prst="line">
            <a:avLst/>
          </a:prstGeom>
          <a:ln w="36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7848720" y="5410080"/>
            <a:ext cx="838080" cy="466560"/>
            <a:chOff x="7848720" y="5410080"/>
            <a:chExt cx="838080" cy="466560"/>
          </a:xfrm>
        </p:grpSpPr>
        <p:grpSp>
          <p:nvGrpSpPr>
            <p:cNvPr id="64" name=""/>
            <p:cNvGrpSpPr/>
            <p:nvPr/>
          </p:nvGrpSpPr>
          <p:grpSpPr>
            <a:xfrm>
              <a:off x="7873920" y="5410080"/>
              <a:ext cx="812880" cy="466560"/>
              <a:chOff x="7873920" y="5410080"/>
              <a:chExt cx="812880" cy="466560"/>
            </a:xfrm>
          </p:grpSpPr>
          <p:sp>
            <p:nvSpPr>
              <p:cNvPr id="65" name=""/>
              <p:cNvSpPr/>
              <p:nvPr/>
            </p:nvSpPr>
            <p:spPr>
              <a:xfrm>
                <a:off x="7873920" y="5410080"/>
                <a:ext cx="812880" cy="466560"/>
              </a:xfrm>
              <a:custGeom>
                <a:avLst/>
                <a:gdLst/>
                <a:ahLst/>
                <a:rect l="l" t="t" r="r" b="b"/>
                <a:pathLst>
                  <a:path w="919" h="416">
                    <a:moveTo>
                      <a:pt x="678" y="0"/>
                    </a:moveTo>
                    <a:lnTo>
                      <a:pt x="678" y="50"/>
                    </a:lnTo>
                    <a:lnTo>
                      <a:pt x="0" y="50"/>
                    </a:lnTo>
                    <a:lnTo>
                      <a:pt x="0" y="366"/>
                    </a:lnTo>
                    <a:lnTo>
                      <a:pt x="678" y="366"/>
                    </a:lnTo>
                    <a:lnTo>
                      <a:pt x="678" y="416"/>
                    </a:lnTo>
                    <a:lnTo>
                      <a:pt x="919" y="208"/>
                    </a:lnTo>
                    <a:lnTo>
                      <a:pt x="678" y="0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873920" y="5410080"/>
                <a:ext cx="812880" cy="466560"/>
              </a:xfrm>
              <a:custGeom>
                <a:avLst/>
                <a:gdLst/>
                <a:ahLst/>
                <a:rect l="l" t="t" r="r" b="b"/>
                <a:pathLst>
                  <a:path w="919" h="416">
                    <a:moveTo>
                      <a:pt x="678" y="0"/>
                    </a:moveTo>
                    <a:lnTo>
                      <a:pt x="678" y="50"/>
                    </a:lnTo>
                    <a:lnTo>
                      <a:pt x="0" y="50"/>
                    </a:lnTo>
                    <a:lnTo>
                      <a:pt x="0" y="366"/>
                    </a:lnTo>
                    <a:lnTo>
                      <a:pt x="678" y="366"/>
                    </a:lnTo>
                    <a:lnTo>
                      <a:pt x="678" y="416"/>
                    </a:lnTo>
                    <a:lnTo>
                      <a:pt x="919" y="208"/>
                    </a:lnTo>
                    <a:lnTo>
                      <a:pt x="678" y="0"/>
                    </a:ln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7848720" y="54608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000000"/>
                  </a:solidFill>
                  <a:latin typeface="Arial"/>
                </a:rPr>
                <a:t>Фінансові розрахунк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7010280" y="4800600"/>
            <a:ext cx="1447920" cy="587520"/>
            <a:chOff x="7010280" y="4800600"/>
            <a:chExt cx="1447920" cy="587520"/>
          </a:xfrm>
        </p:grpSpPr>
        <p:grpSp>
          <p:nvGrpSpPr>
            <p:cNvPr id="69" name=""/>
            <p:cNvGrpSpPr/>
            <p:nvPr/>
          </p:nvGrpSpPr>
          <p:grpSpPr>
            <a:xfrm>
              <a:off x="7148520" y="4800600"/>
              <a:ext cx="1295280" cy="587520"/>
              <a:chOff x="7148520" y="4800600"/>
              <a:chExt cx="1295280" cy="587520"/>
            </a:xfrm>
          </p:grpSpPr>
          <p:sp>
            <p:nvSpPr>
              <p:cNvPr id="70" name=""/>
              <p:cNvSpPr/>
              <p:nvPr/>
            </p:nvSpPr>
            <p:spPr>
              <a:xfrm>
                <a:off x="7148520" y="4800600"/>
                <a:ext cx="1295280" cy="587520"/>
              </a:xfrm>
              <a:custGeom>
                <a:avLst/>
                <a:gdLst/>
                <a:ahLst/>
                <a:rect l="l" t="t" r="r" b="b"/>
                <a:pathLst>
                  <a:path w="1250" h="457">
                    <a:moveTo>
                      <a:pt x="921" y="0"/>
                    </a:moveTo>
                    <a:lnTo>
                      <a:pt x="921" y="55"/>
                    </a:lnTo>
                    <a:lnTo>
                      <a:pt x="0" y="55"/>
                    </a:lnTo>
                    <a:lnTo>
                      <a:pt x="0" y="402"/>
                    </a:lnTo>
                    <a:lnTo>
                      <a:pt x="921" y="402"/>
                    </a:lnTo>
                    <a:lnTo>
                      <a:pt x="921" y="457"/>
                    </a:lnTo>
                    <a:lnTo>
                      <a:pt x="1250" y="228"/>
                    </a:lnTo>
                    <a:lnTo>
                      <a:pt x="921" y="0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148520" y="4800600"/>
                <a:ext cx="1295280" cy="587520"/>
              </a:xfrm>
              <a:custGeom>
                <a:avLst/>
                <a:gdLst/>
                <a:ahLst/>
                <a:rect l="l" t="t" r="r" b="b"/>
                <a:pathLst>
                  <a:path w="1250" h="457">
                    <a:moveTo>
                      <a:pt x="921" y="0"/>
                    </a:moveTo>
                    <a:lnTo>
                      <a:pt x="921" y="55"/>
                    </a:lnTo>
                    <a:lnTo>
                      <a:pt x="0" y="55"/>
                    </a:lnTo>
                    <a:lnTo>
                      <a:pt x="0" y="402"/>
                    </a:lnTo>
                    <a:lnTo>
                      <a:pt x="921" y="402"/>
                    </a:lnTo>
                    <a:lnTo>
                      <a:pt x="921" y="457"/>
                    </a:lnTo>
                    <a:lnTo>
                      <a:pt x="1250" y="228"/>
                    </a:lnTo>
                    <a:lnTo>
                      <a:pt x="921" y="0"/>
                    </a:ln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" name=""/>
            <p:cNvSpPr/>
            <p:nvPr/>
          </p:nvSpPr>
          <p:spPr>
            <a:xfrm>
              <a:off x="7010280" y="489456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000000"/>
                  </a:solidFill>
                  <a:latin typeface="Arial"/>
                </a:rPr>
                <a:t>Визначення використаних обсягів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 flipV="1">
            <a:off x="1447920" y="1066320"/>
            <a:ext cx="0" cy="4953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152280" y="1066680"/>
            <a:ext cx="1143000" cy="533520"/>
            <a:chOff x="152280" y="1066680"/>
            <a:chExt cx="1143000" cy="533520"/>
          </a:xfrm>
        </p:grpSpPr>
        <p:grpSp>
          <p:nvGrpSpPr>
            <p:cNvPr id="75" name=""/>
            <p:cNvGrpSpPr/>
            <p:nvPr/>
          </p:nvGrpSpPr>
          <p:grpSpPr>
            <a:xfrm>
              <a:off x="152280" y="1066680"/>
              <a:ext cx="1143000" cy="533520"/>
              <a:chOff x="152280" y="1066680"/>
              <a:chExt cx="1143000" cy="533520"/>
            </a:xfrm>
          </p:grpSpPr>
          <p:sp>
            <p:nvSpPr>
              <p:cNvPr id="76" name=""/>
              <p:cNvSpPr/>
              <p:nvPr/>
            </p:nvSpPr>
            <p:spPr>
              <a:xfrm>
                <a:off x="152280" y="1066680"/>
                <a:ext cx="1143000" cy="533520"/>
              </a:xfrm>
              <a:custGeom>
                <a:avLst/>
                <a:gdLst/>
                <a:ahLst/>
                <a:rect l="l" t="t" r="r" b="b"/>
                <a:pathLst>
                  <a:path w="1056" h="416">
                    <a:moveTo>
                      <a:pt x="779" y="0"/>
                    </a:moveTo>
                    <a:lnTo>
                      <a:pt x="779" y="50"/>
                    </a:lnTo>
                    <a:lnTo>
                      <a:pt x="0" y="50"/>
                    </a:lnTo>
                    <a:lnTo>
                      <a:pt x="0" y="366"/>
                    </a:lnTo>
                    <a:lnTo>
                      <a:pt x="779" y="366"/>
                    </a:lnTo>
                    <a:lnTo>
                      <a:pt x="779" y="416"/>
                    </a:lnTo>
                    <a:lnTo>
                      <a:pt x="1056" y="208"/>
                    </a:lnTo>
                    <a:lnTo>
                      <a:pt x="779" y="0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52280" y="1066680"/>
                <a:ext cx="1143000" cy="533520"/>
              </a:xfrm>
              <a:custGeom>
                <a:avLst/>
                <a:gdLst/>
                <a:ahLst/>
                <a:rect l="l" t="t" r="r" b="b"/>
                <a:pathLst>
                  <a:path w="1056" h="416">
                    <a:moveTo>
                      <a:pt x="779" y="0"/>
                    </a:moveTo>
                    <a:lnTo>
                      <a:pt x="779" y="50"/>
                    </a:lnTo>
                    <a:lnTo>
                      <a:pt x="0" y="50"/>
                    </a:lnTo>
                    <a:lnTo>
                      <a:pt x="0" y="366"/>
                    </a:lnTo>
                    <a:lnTo>
                      <a:pt x="779" y="366"/>
                    </a:lnTo>
                    <a:lnTo>
                      <a:pt x="779" y="416"/>
                    </a:lnTo>
                    <a:lnTo>
                      <a:pt x="1056" y="208"/>
                    </a:lnTo>
                    <a:lnTo>
                      <a:pt x="779" y="0"/>
                    </a:ln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>
              <a:off x="152280" y="11430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000000"/>
                  </a:solidFill>
                  <a:latin typeface="Arial"/>
                </a:rPr>
                <a:t>Реєстрація учасників БР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304920" y="1676520"/>
            <a:ext cx="1135080" cy="457200"/>
            <a:chOff x="304920" y="1676520"/>
            <a:chExt cx="1135080" cy="457200"/>
          </a:xfrm>
        </p:grpSpPr>
        <p:grpSp>
          <p:nvGrpSpPr>
            <p:cNvPr id="80" name=""/>
            <p:cNvGrpSpPr/>
            <p:nvPr/>
          </p:nvGrpSpPr>
          <p:grpSpPr>
            <a:xfrm>
              <a:off x="366840" y="1676520"/>
              <a:ext cx="1073160" cy="457200"/>
              <a:chOff x="366840" y="1676520"/>
              <a:chExt cx="1073160" cy="457200"/>
            </a:xfrm>
          </p:grpSpPr>
          <p:sp>
            <p:nvSpPr>
              <p:cNvPr id="81" name=""/>
              <p:cNvSpPr/>
              <p:nvPr/>
            </p:nvSpPr>
            <p:spPr>
              <a:xfrm>
                <a:off x="366840" y="1676520"/>
                <a:ext cx="1073160" cy="457200"/>
              </a:xfrm>
              <a:custGeom>
                <a:avLst/>
                <a:gdLst/>
                <a:ahLst/>
                <a:rect l="l" t="t" r="r" b="b"/>
                <a:pathLst>
                  <a:path w="1056" h="416">
                    <a:moveTo>
                      <a:pt x="778" y="0"/>
                    </a:moveTo>
                    <a:lnTo>
                      <a:pt x="778" y="50"/>
                    </a:lnTo>
                    <a:lnTo>
                      <a:pt x="0" y="50"/>
                    </a:lnTo>
                    <a:lnTo>
                      <a:pt x="0" y="366"/>
                    </a:lnTo>
                    <a:lnTo>
                      <a:pt x="778" y="366"/>
                    </a:lnTo>
                    <a:lnTo>
                      <a:pt x="778" y="416"/>
                    </a:lnTo>
                    <a:lnTo>
                      <a:pt x="1056" y="208"/>
                    </a:lnTo>
                    <a:lnTo>
                      <a:pt x="778" y="0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6840" y="1676520"/>
                <a:ext cx="1073160" cy="457200"/>
              </a:xfrm>
              <a:custGeom>
                <a:avLst/>
                <a:gdLst/>
                <a:ahLst/>
                <a:rect l="l" t="t" r="r" b="b"/>
                <a:pathLst>
                  <a:path w="1056" h="416">
                    <a:moveTo>
                      <a:pt x="778" y="0"/>
                    </a:moveTo>
                    <a:lnTo>
                      <a:pt x="778" y="50"/>
                    </a:lnTo>
                    <a:lnTo>
                      <a:pt x="0" y="50"/>
                    </a:lnTo>
                    <a:lnTo>
                      <a:pt x="0" y="366"/>
                    </a:lnTo>
                    <a:lnTo>
                      <a:pt x="778" y="366"/>
                    </a:lnTo>
                    <a:lnTo>
                      <a:pt x="778" y="416"/>
                    </a:lnTo>
                    <a:lnTo>
                      <a:pt x="1056" y="208"/>
                    </a:lnTo>
                    <a:lnTo>
                      <a:pt x="778" y="0"/>
                    </a:ln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04920" y="172728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000000"/>
                  </a:solidFill>
                  <a:latin typeface="Arial"/>
                </a:rPr>
                <a:t>Подання технічних даних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4572000" y="4114800"/>
            <a:ext cx="1658880" cy="496800"/>
            <a:chOff x="4572000" y="4114800"/>
            <a:chExt cx="1658880" cy="496800"/>
          </a:xfrm>
        </p:grpSpPr>
        <p:grpSp>
          <p:nvGrpSpPr>
            <p:cNvPr id="85" name=""/>
            <p:cNvGrpSpPr/>
            <p:nvPr/>
          </p:nvGrpSpPr>
          <p:grpSpPr>
            <a:xfrm>
              <a:off x="4618080" y="4114800"/>
              <a:ext cx="1612800" cy="496800"/>
              <a:chOff x="4618080" y="4114800"/>
              <a:chExt cx="1612800" cy="496800"/>
            </a:xfrm>
          </p:grpSpPr>
          <p:sp>
            <p:nvSpPr>
              <p:cNvPr id="86" name=""/>
              <p:cNvSpPr/>
              <p:nvPr/>
            </p:nvSpPr>
            <p:spPr>
              <a:xfrm>
                <a:off x="4618080" y="4114800"/>
                <a:ext cx="1612800" cy="496800"/>
              </a:xfrm>
              <a:custGeom>
                <a:avLst/>
                <a:gdLst/>
                <a:ahLst/>
                <a:rect l="l" t="t" r="r" b="b"/>
                <a:pathLst>
                  <a:path w="1251" h="497">
                    <a:moveTo>
                      <a:pt x="922" y="0"/>
                    </a:moveTo>
                    <a:lnTo>
                      <a:pt x="922" y="60"/>
                    </a:lnTo>
                    <a:lnTo>
                      <a:pt x="0" y="60"/>
                    </a:lnTo>
                    <a:lnTo>
                      <a:pt x="0" y="437"/>
                    </a:lnTo>
                    <a:lnTo>
                      <a:pt x="922" y="437"/>
                    </a:lnTo>
                    <a:lnTo>
                      <a:pt x="922" y="497"/>
                    </a:lnTo>
                    <a:lnTo>
                      <a:pt x="1251" y="249"/>
                    </a:lnTo>
                    <a:lnTo>
                      <a:pt x="922" y="0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4618080" y="4114800"/>
                <a:ext cx="1612800" cy="496800"/>
              </a:xfrm>
              <a:custGeom>
                <a:avLst/>
                <a:gdLst/>
                <a:ahLst/>
                <a:rect l="l" t="t" r="r" b="b"/>
                <a:pathLst>
                  <a:path w="1251" h="497">
                    <a:moveTo>
                      <a:pt x="922" y="0"/>
                    </a:moveTo>
                    <a:lnTo>
                      <a:pt x="922" y="60"/>
                    </a:lnTo>
                    <a:lnTo>
                      <a:pt x="0" y="60"/>
                    </a:lnTo>
                    <a:lnTo>
                      <a:pt x="0" y="437"/>
                    </a:lnTo>
                    <a:lnTo>
                      <a:pt x="922" y="437"/>
                    </a:lnTo>
                    <a:lnTo>
                      <a:pt x="922" y="497"/>
                    </a:lnTo>
                    <a:lnTo>
                      <a:pt x="1251" y="249"/>
                    </a:lnTo>
                    <a:lnTo>
                      <a:pt x="922" y="0"/>
                    </a:ln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4572000" y="4190760"/>
              <a:ext cx="165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000000"/>
                  </a:solidFill>
                  <a:latin typeface="Arial"/>
                </a:rPr>
                <a:t>Впорядкування, відбір та використання пропозиці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1371600" y="2209680"/>
            <a:ext cx="1135080" cy="457200"/>
            <a:chOff x="1371600" y="2209680"/>
            <a:chExt cx="1135080" cy="457200"/>
          </a:xfrm>
        </p:grpSpPr>
        <p:grpSp>
          <p:nvGrpSpPr>
            <p:cNvPr id="90" name=""/>
            <p:cNvGrpSpPr/>
            <p:nvPr/>
          </p:nvGrpSpPr>
          <p:grpSpPr>
            <a:xfrm>
              <a:off x="1433520" y="2209680"/>
              <a:ext cx="1073160" cy="457200"/>
              <a:chOff x="1433520" y="2209680"/>
              <a:chExt cx="1073160" cy="457200"/>
            </a:xfrm>
          </p:grpSpPr>
          <p:sp>
            <p:nvSpPr>
              <p:cNvPr id="91" name=""/>
              <p:cNvSpPr/>
              <p:nvPr/>
            </p:nvSpPr>
            <p:spPr>
              <a:xfrm>
                <a:off x="1433520" y="2209680"/>
                <a:ext cx="1073160" cy="457200"/>
              </a:xfrm>
              <a:custGeom>
                <a:avLst/>
                <a:gdLst/>
                <a:ahLst/>
                <a:rect l="l" t="t" r="r" b="b"/>
                <a:pathLst>
                  <a:path w="1056" h="416">
                    <a:moveTo>
                      <a:pt x="778" y="0"/>
                    </a:moveTo>
                    <a:lnTo>
                      <a:pt x="778" y="50"/>
                    </a:lnTo>
                    <a:lnTo>
                      <a:pt x="0" y="50"/>
                    </a:lnTo>
                    <a:lnTo>
                      <a:pt x="0" y="366"/>
                    </a:lnTo>
                    <a:lnTo>
                      <a:pt x="778" y="366"/>
                    </a:lnTo>
                    <a:lnTo>
                      <a:pt x="778" y="416"/>
                    </a:lnTo>
                    <a:lnTo>
                      <a:pt x="1056" y="208"/>
                    </a:lnTo>
                    <a:lnTo>
                      <a:pt x="778" y="0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433520" y="2209680"/>
                <a:ext cx="1073160" cy="457200"/>
              </a:xfrm>
              <a:custGeom>
                <a:avLst/>
                <a:gdLst/>
                <a:ahLst/>
                <a:rect l="l" t="t" r="r" b="b"/>
                <a:pathLst>
                  <a:path w="1056" h="416">
                    <a:moveTo>
                      <a:pt x="778" y="0"/>
                    </a:moveTo>
                    <a:lnTo>
                      <a:pt x="778" y="50"/>
                    </a:lnTo>
                    <a:lnTo>
                      <a:pt x="0" y="50"/>
                    </a:lnTo>
                    <a:lnTo>
                      <a:pt x="0" y="366"/>
                    </a:lnTo>
                    <a:lnTo>
                      <a:pt x="778" y="366"/>
                    </a:lnTo>
                    <a:lnTo>
                      <a:pt x="778" y="416"/>
                    </a:lnTo>
                    <a:lnTo>
                      <a:pt x="1056" y="208"/>
                    </a:lnTo>
                    <a:lnTo>
                      <a:pt x="778" y="0"/>
                    </a:ln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1371600" y="226044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000000"/>
                  </a:solidFill>
                  <a:latin typeface="Arial"/>
                </a:rPr>
                <a:t>Пропозиції потужності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1905120" y="2819520"/>
            <a:ext cx="1135080" cy="457200"/>
            <a:chOff x="1905120" y="2819520"/>
            <a:chExt cx="1135080" cy="457200"/>
          </a:xfrm>
        </p:grpSpPr>
        <p:grpSp>
          <p:nvGrpSpPr>
            <p:cNvPr id="95" name=""/>
            <p:cNvGrpSpPr/>
            <p:nvPr/>
          </p:nvGrpSpPr>
          <p:grpSpPr>
            <a:xfrm>
              <a:off x="1967040" y="2819520"/>
              <a:ext cx="1073160" cy="457200"/>
              <a:chOff x="1967040" y="2819520"/>
              <a:chExt cx="1073160" cy="457200"/>
            </a:xfrm>
          </p:grpSpPr>
          <p:sp>
            <p:nvSpPr>
              <p:cNvPr id="96" name=""/>
              <p:cNvSpPr/>
              <p:nvPr/>
            </p:nvSpPr>
            <p:spPr>
              <a:xfrm>
                <a:off x="1967040" y="2819520"/>
                <a:ext cx="1073160" cy="457200"/>
              </a:xfrm>
              <a:custGeom>
                <a:avLst/>
                <a:gdLst/>
                <a:ahLst/>
                <a:rect l="l" t="t" r="r" b="b"/>
                <a:pathLst>
                  <a:path w="1056" h="416">
                    <a:moveTo>
                      <a:pt x="778" y="0"/>
                    </a:moveTo>
                    <a:lnTo>
                      <a:pt x="778" y="50"/>
                    </a:lnTo>
                    <a:lnTo>
                      <a:pt x="0" y="50"/>
                    </a:lnTo>
                    <a:lnTo>
                      <a:pt x="0" y="366"/>
                    </a:lnTo>
                    <a:lnTo>
                      <a:pt x="778" y="366"/>
                    </a:lnTo>
                    <a:lnTo>
                      <a:pt x="778" y="416"/>
                    </a:lnTo>
                    <a:lnTo>
                      <a:pt x="1056" y="208"/>
                    </a:lnTo>
                    <a:lnTo>
                      <a:pt x="778" y="0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967040" y="2819520"/>
                <a:ext cx="1073160" cy="457200"/>
              </a:xfrm>
              <a:custGeom>
                <a:avLst/>
                <a:gdLst/>
                <a:ahLst/>
                <a:rect l="l" t="t" r="r" b="b"/>
                <a:pathLst>
                  <a:path w="1056" h="416">
                    <a:moveTo>
                      <a:pt x="778" y="0"/>
                    </a:moveTo>
                    <a:lnTo>
                      <a:pt x="778" y="50"/>
                    </a:lnTo>
                    <a:lnTo>
                      <a:pt x="0" y="50"/>
                    </a:lnTo>
                    <a:lnTo>
                      <a:pt x="0" y="366"/>
                    </a:lnTo>
                    <a:lnTo>
                      <a:pt x="778" y="366"/>
                    </a:lnTo>
                    <a:lnTo>
                      <a:pt x="778" y="416"/>
                    </a:lnTo>
                    <a:lnTo>
                      <a:pt x="1056" y="208"/>
                    </a:lnTo>
                    <a:lnTo>
                      <a:pt x="778" y="0"/>
                    </a:ln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1905120" y="2935440"/>
              <a:ext cx="10666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000000"/>
                  </a:solidFill>
                  <a:latin typeface="Arial"/>
                </a:rPr>
                <a:t>Фізичні заявк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2514600" y="3352680"/>
            <a:ext cx="1135080" cy="457200"/>
            <a:chOff x="2514600" y="3352680"/>
            <a:chExt cx="1135080" cy="457200"/>
          </a:xfrm>
        </p:grpSpPr>
        <p:grpSp>
          <p:nvGrpSpPr>
            <p:cNvPr id="100" name=""/>
            <p:cNvGrpSpPr/>
            <p:nvPr/>
          </p:nvGrpSpPr>
          <p:grpSpPr>
            <a:xfrm>
              <a:off x="2576520" y="3352680"/>
              <a:ext cx="1073160" cy="457200"/>
              <a:chOff x="2576520" y="3352680"/>
              <a:chExt cx="1073160" cy="457200"/>
            </a:xfrm>
          </p:grpSpPr>
          <p:sp>
            <p:nvSpPr>
              <p:cNvPr id="101" name=""/>
              <p:cNvSpPr/>
              <p:nvPr/>
            </p:nvSpPr>
            <p:spPr>
              <a:xfrm>
                <a:off x="2576520" y="3352680"/>
                <a:ext cx="1073160" cy="457200"/>
              </a:xfrm>
              <a:custGeom>
                <a:avLst/>
                <a:gdLst/>
                <a:ahLst/>
                <a:rect l="l" t="t" r="r" b="b"/>
                <a:pathLst>
                  <a:path w="1056" h="416">
                    <a:moveTo>
                      <a:pt x="778" y="0"/>
                    </a:moveTo>
                    <a:lnTo>
                      <a:pt x="778" y="50"/>
                    </a:lnTo>
                    <a:lnTo>
                      <a:pt x="0" y="50"/>
                    </a:lnTo>
                    <a:lnTo>
                      <a:pt x="0" y="366"/>
                    </a:lnTo>
                    <a:lnTo>
                      <a:pt x="778" y="366"/>
                    </a:lnTo>
                    <a:lnTo>
                      <a:pt x="778" y="416"/>
                    </a:lnTo>
                    <a:lnTo>
                      <a:pt x="1056" y="208"/>
                    </a:lnTo>
                    <a:lnTo>
                      <a:pt x="778" y="0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576520" y="3352680"/>
                <a:ext cx="1073160" cy="457200"/>
              </a:xfrm>
              <a:custGeom>
                <a:avLst/>
                <a:gdLst/>
                <a:ahLst/>
                <a:rect l="l" t="t" r="r" b="b"/>
                <a:pathLst>
                  <a:path w="1056" h="416">
                    <a:moveTo>
                      <a:pt x="778" y="0"/>
                    </a:moveTo>
                    <a:lnTo>
                      <a:pt x="778" y="50"/>
                    </a:lnTo>
                    <a:lnTo>
                      <a:pt x="0" y="50"/>
                    </a:lnTo>
                    <a:lnTo>
                      <a:pt x="0" y="366"/>
                    </a:lnTo>
                    <a:lnTo>
                      <a:pt x="778" y="366"/>
                    </a:lnTo>
                    <a:lnTo>
                      <a:pt x="778" y="416"/>
                    </a:lnTo>
                    <a:lnTo>
                      <a:pt x="1056" y="208"/>
                    </a:lnTo>
                    <a:lnTo>
                      <a:pt x="778" y="0"/>
                    </a:ln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>
              <a:off x="2514600" y="340344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000000"/>
                  </a:solidFill>
                  <a:latin typeface="Arial"/>
                </a:rPr>
                <a:t>Складання графіку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2438280" y="3962520"/>
            <a:ext cx="1658880" cy="496800"/>
            <a:chOff x="2438280" y="3962520"/>
            <a:chExt cx="1658880" cy="496800"/>
          </a:xfrm>
        </p:grpSpPr>
        <p:grpSp>
          <p:nvGrpSpPr>
            <p:cNvPr id="105" name=""/>
            <p:cNvGrpSpPr/>
            <p:nvPr/>
          </p:nvGrpSpPr>
          <p:grpSpPr>
            <a:xfrm>
              <a:off x="2484360" y="3962520"/>
              <a:ext cx="1612800" cy="496800"/>
              <a:chOff x="2484360" y="3962520"/>
              <a:chExt cx="1612800" cy="496800"/>
            </a:xfrm>
          </p:grpSpPr>
          <p:sp>
            <p:nvSpPr>
              <p:cNvPr id="106" name=""/>
              <p:cNvSpPr/>
              <p:nvPr/>
            </p:nvSpPr>
            <p:spPr>
              <a:xfrm>
                <a:off x="2484360" y="3962520"/>
                <a:ext cx="1612800" cy="496800"/>
              </a:xfrm>
              <a:custGeom>
                <a:avLst/>
                <a:gdLst/>
                <a:ahLst/>
                <a:rect l="l" t="t" r="r" b="b"/>
                <a:pathLst>
                  <a:path w="1251" h="497">
                    <a:moveTo>
                      <a:pt x="922" y="0"/>
                    </a:moveTo>
                    <a:lnTo>
                      <a:pt x="922" y="60"/>
                    </a:lnTo>
                    <a:lnTo>
                      <a:pt x="0" y="60"/>
                    </a:lnTo>
                    <a:lnTo>
                      <a:pt x="0" y="437"/>
                    </a:lnTo>
                    <a:lnTo>
                      <a:pt x="922" y="437"/>
                    </a:lnTo>
                    <a:lnTo>
                      <a:pt x="922" y="497"/>
                    </a:lnTo>
                    <a:lnTo>
                      <a:pt x="1251" y="249"/>
                    </a:lnTo>
                    <a:lnTo>
                      <a:pt x="922" y="0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484360" y="3962520"/>
                <a:ext cx="1612800" cy="496800"/>
              </a:xfrm>
              <a:custGeom>
                <a:avLst/>
                <a:gdLst/>
                <a:ahLst/>
                <a:rect l="l" t="t" r="r" b="b"/>
                <a:pathLst>
                  <a:path w="1251" h="497">
                    <a:moveTo>
                      <a:pt x="922" y="0"/>
                    </a:moveTo>
                    <a:lnTo>
                      <a:pt x="922" y="60"/>
                    </a:lnTo>
                    <a:lnTo>
                      <a:pt x="0" y="60"/>
                    </a:lnTo>
                    <a:lnTo>
                      <a:pt x="0" y="437"/>
                    </a:lnTo>
                    <a:lnTo>
                      <a:pt x="922" y="437"/>
                    </a:lnTo>
                    <a:lnTo>
                      <a:pt x="922" y="497"/>
                    </a:lnTo>
                    <a:lnTo>
                      <a:pt x="1251" y="249"/>
                    </a:lnTo>
                    <a:lnTo>
                      <a:pt x="922" y="0"/>
                    </a:ln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2438280" y="4038480"/>
              <a:ext cx="165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000000"/>
                  </a:solidFill>
                  <a:latin typeface="Arial"/>
                </a:rPr>
                <a:t>Подання цінових заявок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uk-UA" sz="900" spc="-1" strike="noStrike">
                  <a:solidFill>
                    <a:srgbClr val="000000"/>
                  </a:solidFill>
                  <a:latin typeface="Arial"/>
                </a:rPr>
                <a:t>пропозицій на БР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6324480" y="4267080"/>
            <a:ext cx="1828800" cy="496800"/>
            <a:chOff x="6324480" y="4267080"/>
            <a:chExt cx="1828800" cy="496800"/>
          </a:xfrm>
        </p:grpSpPr>
        <p:grpSp>
          <p:nvGrpSpPr>
            <p:cNvPr id="110" name=""/>
            <p:cNvGrpSpPr/>
            <p:nvPr/>
          </p:nvGrpSpPr>
          <p:grpSpPr>
            <a:xfrm>
              <a:off x="6370560" y="4267080"/>
              <a:ext cx="1782720" cy="496800"/>
              <a:chOff x="6370560" y="4267080"/>
              <a:chExt cx="1782720" cy="496800"/>
            </a:xfrm>
          </p:grpSpPr>
          <p:sp>
            <p:nvSpPr>
              <p:cNvPr id="111" name=""/>
              <p:cNvSpPr/>
              <p:nvPr/>
            </p:nvSpPr>
            <p:spPr>
              <a:xfrm>
                <a:off x="6370560" y="4267080"/>
                <a:ext cx="1782720" cy="496800"/>
              </a:xfrm>
              <a:custGeom>
                <a:avLst/>
                <a:gdLst/>
                <a:ahLst/>
                <a:rect l="l" t="t" r="r" b="b"/>
                <a:pathLst>
                  <a:path w="1251" h="497">
                    <a:moveTo>
                      <a:pt x="922" y="0"/>
                    </a:moveTo>
                    <a:lnTo>
                      <a:pt x="922" y="60"/>
                    </a:lnTo>
                    <a:lnTo>
                      <a:pt x="0" y="60"/>
                    </a:lnTo>
                    <a:lnTo>
                      <a:pt x="0" y="437"/>
                    </a:lnTo>
                    <a:lnTo>
                      <a:pt x="922" y="437"/>
                    </a:lnTo>
                    <a:lnTo>
                      <a:pt x="922" y="497"/>
                    </a:lnTo>
                    <a:lnTo>
                      <a:pt x="1251" y="249"/>
                    </a:lnTo>
                    <a:lnTo>
                      <a:pt x="922" y="0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370560" y="4267080"/>
                <a:ext cx="1782720" cy="496800"/>
              </a:xfrm>
              <a:custGeom>
                <a:avLst/>
                <a:gdLst/>
                <a:ahLst/>
                <a:rect l="l" t="t" r="r" b="b"/>
                <a:pathLst>
                  <a:path w="1251" h="497">
                    <a:moveTo>
                      <a:pt x="922" y="0"/>
                    </a:moveTo>
                    <a:lnTo>
                      <a:pt x="922" y="60"/>
                    </a:lnTo>
                    <a:lnTo>
                      <a:pt x="0" y="60"/>
                    </a:lnTo>
                    <a:lnTo>
                      <a:pt x="0" y="437"/>
                    </a:lnTo>
                    <a:lnTo>
                      <a:pt x="922" y="437"/>
                    </a:lnTo>
                    <a:lnTo>
                      <a:pt x="922" y="497"/>
                    </a:lnTo>
                    <a:lnTo>
                      <a:pt x="1251" y="249"/>
                    </a:lnTo>
                    <a:lnTo>
                      <a:pt x="922" y="0"/>
                    </a:ln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6324480" y="43434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000000"/>
                  </a:solidFill>
                  <a:latin typeface="Arial"/>
                </a:rPr>
                <a:t>Повідомлення про прийняття заявок та пропозиці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 flipV="1">
            <a:off x="6248520" y="1066320"/>
            <a:ext cx="0" cy="4953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572000" y="1066320"/>
            <a:ext cx="0" cy="4953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47920" y="5715000"/>
            <a:ext cx="0" cy="641520"/>
          </a:xfrm>
          <a:prstGeom prst="line">
            <a:avLst/>
          </a:prstGeom>
          <a:ln w="36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114800" y="281952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581280" y="281952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3048120" y="281952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819520" y="601992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Arial"/>
              </a:rPr>
              <a:t>15-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352680" y="601992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Arial"/>
              </a:rPr>
              <a:t>17-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601992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Arial"/>
              </a:rPr>
              <a:t>18-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12000" y="602136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Arial"/>
              </a:rPr>
              <a:t>24-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2583000" y="1073160"/>
            <a:ext cx="0" cy="4952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538C-51A9-40C4-A5D4-5E2C26D860B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Фізичні заявки учасників Б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Фізичні заявки СВ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Сукупне планове вироблення всіх генеруючих блоківСВБ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ланове вироблення кожного диспетчеризованого енергоблок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Зведений прогноз споживання для всіх споживачів електроенергії СВ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Споживання, заплановане для кожного диспетчеризованого навантаження споживач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Обміни з іншими СВБ у Національній торговельній зоні, окремо для кожної СВБ, з якою були встановлені блокові обмін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Експорт і імпорт окремо для кожної прикордонної торговельної зон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Фізичні заявки оператора Б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овне сукупне вироблення кожного учасника ринку на день уперед, що відповідає трансакціям продажу, законтрактованим учасником ринку на день уперед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овне сукупне споживання кожного учасника ринку на день уперед, що відповідає трансакціям купівлі, законтрактованим учасником ринку на день уперед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Обмін електроенергією між Національною торговельною зоною й кожною прикордонною торговельною зоною;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CAAD-46B9-4563-8FAE-A0B8AC584D8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Актуалізація диспетчерського графі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51080" y="1803240"/>
            <a:ext cx="4572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47840" y="2362320"/>
            <a:ext cx="4572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699000" y="3003480"/>
            <a:ext cx="3124080" cy="648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207040" y="3625920"/>
            <a:ext cx="1606680" cy="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956200" y="4229280"/>
            <a:ext cx="86364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251080" y="1663560"/>
            <a:ext cx="0" cy="382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51080" y="4807080"/>
            <a:ext cx="14605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6813720" y="1685880"/>
            <a:ext cx="9360" cy="382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708360" y="1682640"/>
            <a:ext cx="6480" cy="378792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213520" y="1682640"/>
            <a:ext cx="6120" cy="37944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59440" y="1679400"/>
            <a:ext cx="6480" cy="3807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46320" y="1419120"/>
            <a:ext cx="22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332240" y="2975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568680" y="1413000"/>
            <a:ext cx="25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024880" y="1432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789880" y="1432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640920" y="14446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07240" y="1625760"/>
            <a:ext cx="208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орговий графі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17320" y="214308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Г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17320" y="277812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Г-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01840" y="341316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Г-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798600" y="401004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Г-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711600" y="4813200"/>
            <a:ext cx="14986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222880" y="4813200"/>
            <a:ext cx="749160" cy="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81760" y="4819680"/>
            <a:ext cx="81288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51080" y="5353200"/>
            <a:ext cx="14605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711600" y="5359320"/>
            <a:ext cx="14986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222880" y="5359320"/>
            <a:ext cx="74916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981760" y="5365800"/>
            <a:ext cx="81900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5400000">
            <a:off x="2898360" y="3946320"/>
            <a:ext cx="180720" cy="1467000"/>
          </a:xfrm>
          <a:custGeom>
            <a:avLst/>
            <a:gdLst>
              <a:gd name="textAreaLeft" fmla="*/ 115560 w 180720"/>
              <a:gd name="textAreaRight" fmla="*/ 181080 w 180720"/>
              <a:gd name="textAreaTop" fmla="*/ 38160 h 1467000"/>
              <a:gd name="textAreaBottom" fmla="*/ 1428840 h 1467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5400000">
            <a:off x="4362120" y="3943080"/>
            <a:ext cx="180720" cy="1467000"/>
          </a:xfrm>
          <a:custGeom>
            <a:avLst/>
            <a:gdLst>
              <a:gd name="textAreaLeft" fmla="*/ 115560 w 180720"/>
              <a:gd name="textAreaRight" fmla="*/ 181080 w 180720"/>
              <a:gd name="textAreaTop" fmla="*/ 38160 h 1467000"/>
              <a:gd name="textAreaBottom" fmla="*/ 1428840 h 1467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5400000">
            <a:off x="5494320" y="4313160"/>
            <a:ext cx="209520" cy="752400"/>
          </a:xfrm>
          <a:custGeom>
            <a:avLst/>
            <a:gdLst>
              <a:gd name="textAreaLeft" fmla="*/ 133920 w 209520"/>
              <a:gd name="textAreaRight" fmla="*/ 209880 w 209520"/>
              <a:gd name="textAreaTop" fmla="*/ 19440 h 752400"/>
              <a:gd name="textAreaBottom" fmla="*/ 732960 h 752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5400000">
            <a:off x="6285960" y="4276800"/>
            <a:ext cx="209880" cy="819000"/>
          </a:xfrm>
          <a:custGeom>
            <a:avLst/>
            <a:gdLst>
              <a:gd name="textAreaLeft" fmla="*/ 134280 w 209880"/>
              <a:gd name="textAreaRight" fmla="*/ 210240 w 209880"/>
              <a:gd name="textAreaTop" fmla="*/ 21240 h 819000"/>
              <a:gd name="textAreaBottom" fmla="*/ 797760 h 81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08280" y="4356000"/>
            <a:ext cx="67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</a:rPr>
              <a:t>ДГ-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204080" y="4356000"/>
            <a:ext cx="45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</a:rPr>
              <a:t>ДГ-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37360" y="4375080"/>
            <a:ext cx="525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</a:rPr>
              <a:t>ДГ-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108840" y="4375080"/>
            <a:ext cx="525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</a:rPr>
              <a:t>ДГ-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5400000">
            <a:off x="2895120" y="4524120"/>
            <a:ext cx="180720" cy="1467000"/>
          </a:xfrm>
          <a:custGeom>
            <a:avLst/>
            <a:gdLst>
              <a:gd name="textAreaLeft" fmla="*/ 115560 w 180720"/>
              <a:gd name="textAreaRight" fmla="*/ 181080 w 180720"/>
              <a:gd name="textAreaTop" fmla="*/ 38160 h 1467000"/>
              <a:gd name="textAreaBottom" fmla="*/ 1428840 h 1467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05040" y="4933800"/>
            <a:ext cx="67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</a:rPr>
              <a:t>ДГ-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5400000">
            <a:off x="6282720" y="4854600"/>
            <a:ext cx="209520" cy="819000"/>
          </a:xfrm>
          <a:custGeom>
            <a:avLst/>
            <a:gdLst>
              <a:gd name="textAreaLeft" fmla="*/ 133920 w 209520"/>
              <a:gd name="textAreaRight" fmla="*/ 209880 w 209520"/>
              <a:gd name="textAreaTop" fmla="*/ 21240 h 819000"/>
              <a:gd name="textAreaBottom" fmla="*/ 797760 h 81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105600" y="4952880"/>
            <a:ext cx="525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</a:rPr>
              <a:t>ДГ-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5400000">
            <a:off x="4767120" y="4113000"/>
            <a:ext cx="165240" cy="2238480"/>
          </a:xfrm>
          <a:custGeom>
            <a:avLst/>
            <a:gdLst>
              <a:gd name="textAreaLeft" fmla="*/ 105480 w 165240"/>
              <a:gd name="textAreaRight" fmla="*/ 165600 w 165240"/>
              <a:gd name="textAreaTop" fmla="*/ 58320 h 2238480"/>
              <a:gd name="textAreaBottom" fmla="*/ 2180160 h 2238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62640" y="4946760"/>
            <a:ext cx="45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</a:rPr>
              <a:t>ДГ-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4120" y="4622760"/>
            <a:ext cx="20574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Акцептування заяв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808080"/>
                </a:solidFill>
                <a:latin typeface="Arial"/>
              </a:rPr>
              <a:t>4 рази на доб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1880" y="5178600"/>
            <a:ext cx="18007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Акцептування заяв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3 рази надоб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E0D7-5486-408A-95C1-94ABBCD497B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півставлення цінових заявок з заявками потужності та фізичними заяв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133720" y="1447920"/>
            <a:ext cx="0" cy="3047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2133360" y="4495680"/>
            <a:ext cx="3733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133720" y="3048120"/>
            <a:ext cx="4572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33720" y="3200400"/>
            <a:ext cx="685800" cy="1295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19520" y="2895480"/>
            <a:ext cx="38088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114800" y="2133720"/>
            <a:ext cx="533520" cy="23619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48320" y="1523880"/>
            <a:ext cx="1143000" cy="2971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2438280"/>
            <a:ext cx="914400" cy="20574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11280" y="220500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Ціна заяв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3434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antity (M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981080" y="4572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34120" y="4572000"/>
            <a:ext cx="99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0" lang="uk-UA" sz="1800" spc="-1" strike="noStrike" baseline="-25000">
                <a:solidFill>
                  <a:srgbClr val="333399"/>
                </a:solidFill>
                <a:latin typeface="Arial"/>
              </a:rPr>
              <a:t>в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91320" y="1218960"/>
            <a:ext cx="0" cy="34290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362320" y="4572000"/>
            <a:ext cx="841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</a:rPr>
              <a:t>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2819520" y="1218960"/>
            <a:ext cx="0" cy="34290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419720" y="4572000"/>
            <a:ext cx="99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4876920" y="1218960"/>
            <a:ext cx="0" cy="3429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03640" y="4581360"/>
            <a:ext cx="99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808080"/>
                </a:solidFill>
                <a:latin typeface="Arial"/>
              </a:rPr>
              <a:t>phy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3733920" y="1218960"/>
            <a:ext cx="0" cy="342900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400800" y="4800600"/>
            <a:ext cx="25146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Arial"/>
              </a:rPr>
              <a:t>Встановлена потужні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"/>
          <p:cNvCxnSpPr>
            <a:stCxn id="186" idx="2"/>
            <a:endCxn id="194" idx="1"/>
          </p:cNvCxnSpPr>
          <p:nvPr/>
        </p:nvCxnSpPr>
        <p:spPr>
          <a:xfrm flipH="1" rot="16200000">
            <a:off x="6096600" y="4670280"/>
            <a:ext cx="35640" cy="572040"/>
          </a:xfrm>
          <a:prstGeom prst="curvedConnector2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96" name=""/>
          <p:cNvSpPr/>
          <p:nvPr/>
        </p:nvSpPr>
        <p:spPr>
          <a:xfrm>
            <a:off x="3962520" y="5638680"/>
            <a:ext cx="2554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Заявка потужнос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" name=""/>
          <p:cNvCxnSpPr/>
          <p:nvPr/>
        </p:nvCxnSpPr>
        <p:spPr>
          <a:xfrm rot="5400000">
            <a:off x="4554720" y="5316840"/>
            <a:ext cx="610200" cy="25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8" name=""/>
          <p:cNvSpPr/>
          <p:nvPr/>
        </p:nvSpPr>
        <p:spPr>
          <a:xfrm>
            <a:off x="324000" y="5229360"/>
            <a:ext cx="19810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Arial"/>
              </a:rPr>
              <a:t>Технічний мініму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9" name=""/>
          <p:cNvCxnSpPr>
            <a:stCxn id="188" idx="2"/>
            <a:endCxn id="198" idx="3"/>
          </p:cNvCxnSpPr>
          <p:nvPr/>
        </p:nvCxnSpPr>
        <p:spPr>
          <a:xfrm rot="5400000">
            <a:off x="2311560" y="4931280"/>
            <a:ext cx="464040" cy="478440"/>
          </a:xfrm>
          <a:prstGeom prst="curvedConnector2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80880" y="6095880"/>
            <a:ext cx="22860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808080"/>
                </a:solidFill>
                <a:latin typeface="Arial"/>
              </a:rPr>
              <a:t>Фізична заяв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92" idx="2"/>
            <a:endCxn id="200" idx="3"/>
          </p:cNvCxnSpPr>
          <p:nvPr/>
        </p:nvCxnSpPr>
        <p:spPr>
          <a:xfrm rot="5400000">
            <a:off x="2521800" y="5091840"/>
            <a:ext cx="1321200" cy="1032840"/>
          </a:xfrm>
          <a:prstGeom prst="curvedConnector2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5512-481D-4074-9E93-032DA8296C3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61048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нцип мінімізації вартості електроенергії за допомогою БР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1079640"/>
            <a:ext cx="9144000" cy="544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684360" y="1699920"/>
            <a:ext cx="0" cy="46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84360" y="6308640"/>
            <a:ext cx="755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95280" y="1628640"/>
            <a:ext cx="1332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476360" y="5589720"/>
            <a:ext cx="1079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2556000" y="5300280"/>
            <a:ext cx="0" cy="289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556000" y="5300640"/>
            <a:ext cx="1511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4067280" y="4652640"/>
            <a:ext cx="0" cy="64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067280" y="4653000"/>
            <a:ext cx="1512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5580000" y="4221000"/>
            <a:ext cx="0" cy="432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80000" y="4221000"/>
            <a:ext cx="865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6443640" y="3573000"/>
            <a:ext cx="0" cy="64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443640" y="3573360"/>
            <a:ext cx="1297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643280" y="1557360"/>
            <a:ext cx="0" cy="4680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788000" y="1557360"/>
            <a:ext cx="3240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лан на добу впере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Arial"/>
              </a:rPr>
              <a:t>– </a:t>
            </a:r>
            <a:r>
              <a:rPr b="1" lang="ru-RU" sz="1600" spc="-1" strike="noStrike">
                <a:solidFill>
                  <a:srgbClr val="009999"/>
                </a:solidFill>
                <a:latin typeface="Arial"/>
              </a:rPr>
              <a:t>точка відліку небалансі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4716360" y="2492280"/>
            <a:ext cx="1873440" cy="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248520" y="2666880"/>
            <a:ext cx="0" cy="327672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219640" y="4581360"/>
            <a:ext cx="503280" cy="6494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643280" y="5157720"/>
            <a:ext cx="1656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кщ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актич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живанн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с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3032280" y="2743200"/>
            <a:ext cx="15840" cy="331164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0800000">
            <a:off x="3505320" y="3429000"/>
            <a:ext cx="457200" cy="838080"/>
          </a:xfrm>
          <a:prstGeom prst="rightArrow">
            <a:avLst>
              <a:gd name="adj1" fmla="val 50750"/>
              <a:gd name="adj2" fmla="val 4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059280" y="2133720"/>
            <a:ext cx="158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ущ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актич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живанн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да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164360" y="4076640"/>
            <a:ext cx="197964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Ціна на Б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іднос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ДВ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ост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гружаєтьс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ама дешев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анці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із не уклавши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онтрак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а РД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692360" y="4653000"/>
            <a:ext cx="561636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40360" y="4221000"/>
            <a:ext cx="309564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804000" y="4221000"/>
            <a:ext cx="432000" cy="4320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476360" y="5300640"/>
            <a:ext cx="295128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26920" y="2205000"/>
            <a:ext cx="1979640" cy="22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Ціна на БР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іднос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ДВ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нижуєтьс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озвантажуєть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ама доро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анці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 уклавши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нтрак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РД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0800000">
            <a:off x="1547640" y="4652640"/>
            <a:ext cx="432000" cy="647640"/>
          </a:xfrm>
          <a:prstGeom prst="upArrow">
            <a:avLst>
              <a:gd name="adj1" fmla="val 50000"/>
              <a:gd name="adj2" fmla="val 37479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812000" y="6499080"/>
            <a:ext cx="1332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є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16200000">
            <a:off x="2556720" y="4436280"/>
            <a:ext cx="216000" cy="3960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102960 h 3960720"/>
              <a:gd name="textAreaBottom" fmla="*/ 3857760 h 39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95"/>
                </a:lnTo>
                <a:cubicBezTo>
                  <a:pt x="10800" y="9895"/>
                  <a:pt x="5400" y="10795"/>
                  <a:pt x="0" y="10795"/>
                </a:cubicBezTo>
                <a:cubicBezTo>
                  <a:pt x="5400" y="10795"/>
                  <a:pt x="10800" y="11695"/>
                  <a:pt x="10800" y="1259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938160" y="6473880"/>
            <a:ext cx="34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аявки генераторів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пройшли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на РД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6227640" y="4724280"/>
            <a:ext cx="216000" cy="3384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88200 h 3384720"/>
              <a:gd name="textAreaBottom" fmla="*/ 3296520 h 338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95"/>
                </a:lnTo>
                <a:cubicBezTo>
                  <a:pt x="10800" y="9895"/>
                  <a:pt x="5400" y="10795"/>
                  <a:pt x="0" y="10795"/>
                </a:cubicBezTo>
                <a:cubicBezTo>
                  <a:pt x="5400" y="10795"/>
                  <a:pt x="10800" y="11695"/>
                  <a:pt x="10800" y="1259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16560" y="6458040"/>
            <a:ext cx="36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аявки генераторов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НЕ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пройшли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на РД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D84D-B2EF-4F48-8E6A-7FDCF7964A0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ефіцитний небаланс систе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4392360" cy="4752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ироб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88000" y="1412640"/>
            <a:ext cx="4176720" cy="47847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остачаль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95280" y="4292640"/>
            <a:ext cx="1728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амостій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24000" y="2349360"/>
            <a:ext cx="180000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а командо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556000" y="2060640"/>
            <a:ext cx="1944720" cy="115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Відхилення ввер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родає е.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отримує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максимальну ціну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556000" y="3645000"/>
            <a:ext cx="1944720" cy="115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Відхилення ввер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родає е.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отримує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мінімальну ціну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556000" y="5013360"/>
            <a:ext cx="1944720" cy="115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Відхилення вни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Купує е.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латить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максимальну ціну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788000" y="2276640"/>
            <a:ext cx="180000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а командо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59280" y="4292640"/>
            <a:ext cx="1728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амостій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020000" y="1916280"/>
            <a:ext cx="1944720" cy="115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Відхилення вни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родає е.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отримує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максимальну ціну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020000" y="3500280"/>
            <a:ext cx="1944720" cy="11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Відхилення ввер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Купує е.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лати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максимальну ціну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20000" y="4941720"/>
            <a:ext cx="1944720" cy="11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Відхилення вни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родає е.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отримує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мінімальну ціну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588000" y="2565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6588000" y="4076280"/>
            <a:ext cx="432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88000" y="4653000"/>
            <a:ext cx="432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124000" y="2637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2124000" y="4220640"/>
            <a:ext cx="432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124000" y="4581360"/>
            <a:ext cx="43200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FB47-0C82-4837-97E3-605BE6EA56F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адлишковий небаланс систе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4392360" cy="4752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ироб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716000" y="1412640"/>
            <a:ext cx="4319640" cy="47847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остачаль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5280" y="4292640"/>
            <a:ext cx="1728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амостій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24000" y="2349360"/>
            <a:ext cx="180000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а командо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556000" y="2060640"/>
            <a:ext cx="1944720" cy="115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Відхилення вни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Купує е.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лати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мінімальну ціну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556000" y="3645000"/>
            <a:ext cx="1944720" cy="115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Відхилення ввер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родає е.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отримує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мінімальну ціну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556000" y="5013360"/>
            <a:ext cx="1944720" cy="115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Відхилення вни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Купує е.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латить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максимальну ціну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788000" y="2276640"/>
            <a:ext cx="180000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а командо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859280" y="4292640"/>
            <a:ext cx="1728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амостій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020000" y="1916280"/>
            <a:ext cx="1944720" cy="115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Відхилення ввер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Купує е.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латить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мінімальну ціну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020000" y="3500280"/>
            <a:ext cx="1944720" cy="11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Відхилення ввер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Купує е.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лати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максимальну ціну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020000" y="4941720"/>
            <a:ext cx="1944720" cy="11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Відхилення вни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родає е.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отримує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мінімальну ціну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588000" y="2565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6588000" y="4076280"/>
            <a:ext cx="432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588000" y="4653000"/>
            <a:ext cx="432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124000" y="2637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2124000" y="4220640"/>
            <a:ext cx="432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124000" y="4581360"/>
            <a:ext cx="43200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36DA-6FA9-423C-9DC6-1DAED82FCE1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20:11:28Z</dcterms:created>
  <dc:creator>XTreme</dc:creator>
  <dc:description/>
  <dc:language>en-US</dc:language>
  <cp:lastModifiedBy>Punchik</cp:lastModifiedBy>
  <dcterms:modified xsi:type="dcterms:W3CDTF">2008-09-20T12:59:05Z</dcterms:modified>
  <cp:revision>12</cp:revision>
  <dc:subject/>
  <dc:title>Слайд 1</dc:title>
</cp:coreProperties>
</file>